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30308"/>
        <c:axId val="39240357"/>
      </c:barChart>
      <c:catAx>
        <c:axId val="63430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40357"/>
        <c:crosses val="autoZero"/>
        <c:auto val="1"/>
        <c:lblAlgn val="ctr"/>
        <c:lblOffset val="100"/>
        <c:noMultiLvlLbl val="0"/>
      </c:catAx>
      <c:valAx>
        <c:axId val="39240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30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522-65A8-4C0A-835B-170751CE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EC0-647D-4564-9989-C503DD00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91E-A857-4B52-B212-184D996E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9B3-433B-4947-8DF3-946F8480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772-64A7-4395-85DD-45F9C465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0E8-3698-435A-9EC4-90C9C48D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3E6-C312-4159-AECE-34F35490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C82-265D-452F-BDF2-D5A95CB6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3D6-C449-4624-971D-1398B052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E1D-43B3-4FF1-8780-12C7DCAD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C37-3AD6-4614-AEAC-5006D82E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D5F-C958-4328-B30A-94C335C3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A496A-28BC-46B1-AFC8-6A27C0B894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