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69389"/>
        <c:axId val="38398417"/>
      </c:barChart>
      <c:catAx>
        <c:axId val="10369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98417"/>
        <c:crosses val="autoZero"/>
        <c:auto val="1"/>
        <c:lblAlgn val="ctr"/>
        <c:lblOffset val="100"/>
        <c:noMultiLvlLbl val="0"/>
      </c:catAx>
      <c:valAx>
        <c:axId val="38398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9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9EB-1E3D-4C4D-9D8E-A099904F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F6A-8FD3-4219-B65B-66CBB88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A60-C7CD-46A8-8970-3A795100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D21-DEEF-4D93-A635-05620177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919-701E-4A49-928C-FCDB6ABD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135-BFB3-4ED5-85EA-71251918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92B-8DED-454E-B4B0-5715D21F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D26-FBFD-4A9A-B6C4-2A914E76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022-3E70-4D98-A20E-2069361B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6E0-1459-41A3-A270-906B052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841-28D1-4767-9267-488FA6D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728-D752-47F0-ADDF-45AAB262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76095-FDC0-4398-9801-8A877CE0F3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