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04019"/>
        <c:axId val="78277351"/>
      </c:barChart>
      <c:catAx>
        <c:axId val="86904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77351"/>
        <c:crosses val="autoZero"/>
        <c:auto val="1"/>
        <c:lblAlgn val="ctr"/>
        <c:lblOffset val="100"/>
        <c:noMultiLvlLbl val="0"/>
      </c:catAx>
      <c:valAx>
        <c:axId val="78277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04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8E6-D04F-4532-A0F4-AF897708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806-F4E6-4A0B-9F48-C2388DD0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B15-5E30-4A72-8556-BEC88ACC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221-8BD8-4181-B009-6D87135B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4A4-B985-4975-9D8B-204586CF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EC7-ACCD-4193-B8C0-15B241D4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EC1-21B9-4429-99E2-27286A00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CB0-6A7A-4FBB-B2B8-1E2789E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33D-C3E3-42B0-B9F2-11B0279A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F68-73E5-4A0E-91F3-E667D51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F53-9A63-43B3-B5AB-E73A836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EBE-9042-477E-808D-D952928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C936A-9017-4C90-BED0-A1FB95DD6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