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04864"/>
        <c:axId val="95816323"/>
      </c:barChart>
      <c:catAx>
        <c:axId val="62304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16323"/>
        <c:crosses val="autoZero"/>
        <c:auto val="1"/>
        <c:lblAlgn val="ctr"/>
        <c:lblOffset val="100"/>
        <c:noMultiLvlLbl val="0"/>
      </c:catAx>
      <c:valAx>
        <c:axId val="95816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04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D3D-8442-42AA-9ACD-872A5201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97F-15BA-4885-A50D-5303EBBD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A6F-ECD3-4735-80EA-0BC3D24E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E04-E73C-4EBD-B719-D4F55EBA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92A-7FE2-4FEC-847D-4ECF7810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7DA-6218-4055-AFE3-A86407B3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657-04B2-4877-AFF1-F204DC8C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FB4-092C-440D-A0C4-807F01E6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061-7272-412E-BF4D-307C168D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A57-6C54-4FCF-B22B-D0A9AFDE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B7A-9954-4A05-9D08-BBEF2B0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0C1-164B-4EBD-A4E4-7020F48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9C4D6-85D7-4187-9DF2-4CC51DA123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