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1642192"/>
        <c:axId val="1764721"/>
      </c:barChart>
      <c:catAx>
        <c:axId val="1164219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64721"/>
        <c:crosses val="autoZero"/>
        <c:auto val="1"/>
        <c:lblAlgn val="ctr"/>
        <c:lblOffset val="100"/>
        <c:noMultiLvlLbl val="0"/>
      </c:catAx>
      <c:valAx>
        <c:axId val="176472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64219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336CD-D5AB-453B-B854-97B6F1FE4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AFFCC-5882-43C6-AB6D-5ADBF687F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A59B7-3DF9-497A-BE14-C5392DD5F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64144-1190-4240-89EB-3BC5B0CE3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7EC4D-D1B0-41A7-A548-208CB4E10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22E48-E800-48BF-B630-DA055D998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40599-0F68-408C-870D-695F5427B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A4DC1-EED4-4F70-A19B-364E723FF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C7F6F-7680-479D-840C-0C1F533D4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463E9-A574-48A4-B3E9-B77801512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3E924-A6EF-429E-ACF3-F088FB365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69E2D-7A6E-46F2-896F-3FFF495A0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794B00-1712-4038-8ADE-153E2066352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